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139-AB3F-4C06-9F5A-1238F25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E55-A162-4FE8-83A0-9287226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D46-0378-4819-A722-2C3A6AD7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4FB-BDCB-49DE-A19B-5DCA794E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35B-52E2-4263-BA85-1E8A69C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0A8-E522-4720-B18B-3CE5737B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9BD-C317-462A-8780-B5F49147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67E-4A46-4758-87E1-A515CED4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936-C4A0-4537-A089-71BF8BB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BF5-57E2-4A56-A823-5ADAD9C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A1A-AD55-47EC-9E19-43CC36E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E9B-0542-4DB3-AB0A-C966F19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42A6-A3EB-41E4-AE12-DE146157F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2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effe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training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 Q8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692280"/>
            <a:ext cx="8280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692280"/>
            <a:ext cx="82803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ning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actors do I need to take into account to ensure my training programme is ef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of effective prac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2064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92280"/>
            <a:ext cx="828036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rinciples of Effective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o rest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able progressive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clear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of model per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engths and weakn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boredom and 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set of rules which will ensure your training is effective.  You must apply these to your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20640"/>
            <a:ext cx="8353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oring and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monitor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evaluate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620640"/>
            <a:ext cx="8353440" cy="46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training programme worksheet for your own ski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onsider the Principles of Effective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20640"/>
            <a:ext cx="8353440" cy="64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exam conditions you will be asked to describe the training programme you have designed.  (4) marks are avail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have 30mins to answer this ques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620640"/>
            <a:ext cx="8353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: Wednesda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 for 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hamiltonp</cp:lastModifiedBy>
  <dcterms:modified xsi:type="dcterms:W3CDTF">2010-11-23T14:48:52Z</dcterms:modified>
  <cp:revision>12</cp:revision>
  <dc:subject/>
  <dc:title>Slide 1</dc:title>
</cp:coreProperties>
</file>